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E96-E3BF-492A-BA55-7E0862DE3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A855-035E-4147-8D54-58B7BC31899C}" type="slidenum">
              <a:rPr b="0" lang="en-US" sz="1200" spc="-1" strike="noStrike">
                <a:solidFill>
                  <a:srgbClr val="000000"/>
                </a:solidFill>
                <a:latin typeface="American Typewriter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2DC3-50A7-4842-BB74-C293AE6E163E}" type="slidenum">
              <a:rPr b="0" lang="en-US" sz="1200" spc="-1" strike="noStrike">
                <a:solidFill>
                  <a:srgbClr val="000000"/>
                </a:solidFill>
                <a:latin typeface="American Typewriter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CD7-B5DA-4A4A-8392-42AA250A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44A-B992-4212-B9D3-B8C0A7C7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FBD-DC05-4829-9DFD-AE7CA267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F7F-8969-497B-AF40-9A011CA6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2358-9E82-484E-932F-5924D880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DE4-FF2E-4E35-AB19-37D7C8BB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81AB-A37C-41A8-ABA8-38B1C03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0897-F48B-4B3E-B8E1-EE6F72DC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0E9D-5D97-48CF-B7FE-ED29571D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E144-74D4-4F44-8205-29F5A42B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3AB3-2DA1-40F5-A25C-0723386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5BF-A792-4C29-9332-48AD94C3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CF2C-D59B-4BD9-8396-5809C73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B459-D47A-406D-A7B4-72C4DC9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5602-9B42-4AF8-AFFE-CF5B3E5F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7A66-5813-4EAF-9FB7-3BD547F1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3050-133A-44EE-87E5-C842C389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0E64-09B4-442B-B2DD-DE22D76B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DD46-8DAC-42DF-BA8A-5D8334E7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C37C-9DED-4BFB-8B2E-D865D964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15F2-8EB2-491D-8DCC-01913DF2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A566-2AA7-43DE-858F-A267D12E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286-53FD-4FFE-9374-60A3E3E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B54C-A20F-4850-883E-4EC0FD13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A538-374C-4B54-9C8A-E7D92FDC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B695-776C-4985-8C12-220EC29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C21A-7F69-411D-BC57-4AB90A15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593E-EE35-4D19-A254-018C5CED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8F60-B8F9-4B64-94B8-2FC8BACB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218A-AD55-47A1-B6D6-3CBDE75B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3FD9-6485-486A-9613-9B1C9284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B9AF-C7C7-45DA-8E10-CACA0C12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CBB6-E2F4-419C-B9BC-90A7C16C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2CC-819C-48F3-9F0A-362CE623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384D5-3D9F-4798-92A9-EAA85EE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3521-0C75-490E-BB2E-B0DF2D79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0031-A152-41DF-8F55-F565D559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1BFE-9FA2-4F26-859F-46055E9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5E9E-7B9B-4737-9555-5679445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2752-051C-47BE-9347-E2881F32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E738-96DE-4656-AB08-BDB1A393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F81C-B5E5-41A4-8BBD-6F4C5C51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D986A-2B34-404A-A466-BEB9DD51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6F49D-5C47-4097-AB20-87604847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74B-BBC7-4B6E-8C78-BB300F1C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277EE-B260-47E4-A62C-0A5E9347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51564-F7DA-4395-A242-DE769900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6C976-C37B-4F4D-AC65-F1E019B7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6153A-F7EF-4F9F-B31D-7D4897B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4CA5-B0CB-4678-B6A6-A248356C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77323-3DED-499C-BDFE-F1B63B5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893E-FDF5-4F70-B1C0-00430B8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18C16-DE80-4A5E-980F-EF7D087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69339-3C52-456F-9BFD-89E4089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4E9D2-FF90-4E32-A559-3975128C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57B-9EDA-4310-AB73-2CB3E22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5F0BC-918F-4914-8897-1CE8D358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A37A-B9BD-42EE-A91A-8400811F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1E67C-F73A-4C57-9FF9-F4A4772E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FAFB-0631-4284-9304-F050866C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C0942-BCC0-48B7-8454-7DBBD3FF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B7E2B-A4B9-405E-A392-5AE01695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5D44-F9A3-46AE-8AD1-59C29D60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7759-E9B3-4C42-B125-E611E2F3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2D8C6-3C5A-44FA-AB0E-CE4B6593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4CB8-FBC4-4997-BE4A-84A8B99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758-3E16-45D8-994F-BEA0661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B7131-551B-46BB-AF6F-1057ACE1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D038F-4420-474E-9388-23CF4B91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B142-95D8-46D9-A2FE-2ED3DFEA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B5CC-94CA-4202-8604-23274DB5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3D0E9-CF9D-4C4C-B98D-441DEFEB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1B34D-1B3B-42BB-A6A0-2D210816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3CDDA-935C-4618-9987-AA1EAEE4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71005-F6C5-40A1-83AE-27923E83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63D10-0563-48AE-B244-B96295C6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402A-B225-46EE-A78B-1927A4B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E72-BB4A-410C-8600-BD36D250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F70FF-FA52-4E6B-9CA1-7F5ECAE0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6EB1D-C8B4-46B8-A91D-981C7A4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77BA7-F837-4D22-90E2-6CC1EB33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F966-1E2C-4076-9339-F0ADD703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B8E12-C789-4A42-B06B-294FE816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D3FCB-6189-4BDD-A223-D7349BEB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21A13-0BE2-4B98-8CE1-2F3F2C92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E830-4EEA-4909-A66A-A9D8A738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BA8D-FD09-4A6C-A493-36757AA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4CFE-BE8D-4B25-A419-CCBD05F2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A5A-EE50-4DEE-8A4A-0769D4FE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998CB-C6A1-45E4-9F6E-A2521433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5D94E-8485-4A79-BC8E-B1C2BB3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798F4-0ADF-4395-8CC9-CACBCF3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BF8C-0521-458F-B338-3973239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4CCEB-F965-47A4-ABE0-97085905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1AD93-17C5-46AF-AAC0-D23E79AA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BB91C-7D94-4AE6-8B7A-7A062E60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D336-89FD-4779-B659-A5EA366BCB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merican Typewriter Condensed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5A45-B240-4212-8966-CEFD9243A6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BDC5-ECF8-48EF-B281-7E9B41B7D3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53A4-34E7-40E4-834D-0ED9BEA7B3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146-2FEC-41B1-B0C0-DEC1F826BA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9917-3DFD-4022-8ED4-4C655F440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5A09-002E-4B58-9038-3E2A755C93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28EC-0C62-48B3-9650-2454144717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ranchises.about.com/od/pizza/fr/pizza-hut.htm" TargetMode="External"/><Relationship Id="rId2" Type="http://schemas.openxmlformats.org/officeDocument/2006/relationships/hyperlink" Target="http://franchises.about.com/od/pizza/fr/pizza-hut.htm" TargetMode="External"/><Relationship Id="rId3" Type="http://schemas.openxmlformats.org/officeDocument/2006/relationships/hyperlink" Target="http://www.entrepreneur.com/franchises/pizzahutinc/282696-0.html" TargetMode="External"/><Relationship Id="rId4" Type="http://schemas.openxmlformats.org/officeDocument/2006/relationships/hyperlink" Target="http://www.entrepreneur.com/franchises/pizzahutinc/282696-0.html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8083440" cy="14637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American Typewriter Condensed"/>
              </a:rPr>
              <a:t>By Taylor Jones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4" descr="C:\Users\student\Desktop\images.jpg"/>
          <p:cNvPicPr/>
          <p:nvPr/>
        </p:nvPicPr>
        <p:blipFill>
          <a:blip r:embed="rId2"/>
          <a:stretch/>
        </p:blipFill>
        <p:spPr>
          <a:xfrm>
            <a:off x="0" y="14400"/>
            <a:ext cx="27828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Idea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Dan &amp; Frank Careny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Wichita Kansa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600$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Down town Wichita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9080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Equipmen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Pizza Hut?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Popularity?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izza, Pasta wings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Over 50 years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tinuous growth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Owned by yum! Brands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fits$700,000 to $800,000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140,000+ Employees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13,596 Franchises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5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C:\Users\student\Desktop\images.jpg"/>
          <p:cNvPicPr/>
          <p:nvPr/>
        </p:nvPicPr>
        <p:blipFill>
          <a:blip r:embed="rId2"/>
          <a:stretch/>
        </p:blipFill>
        <p:spPr>
          <a:xfrm>
            <a:off x="3352680" y="3552840"/>
            <a:ext cx="56390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4190760"/>
            <a:ext cx="8001000" cy="19810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44320"/>
            <a:ext cx="40402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ree A’s progra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undraising Opportun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undraiser Nigh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4720" y="1444320"/>
            <a:ext cx="404172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zheimer's Associ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pportunity Builders, In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ok It!® Progr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600" y="1295280"/>
            <a:ext cx="8610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strong belief in multi-br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ligned set of cultural value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Entrepreneurial spirit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Management capabilitie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Passion for delivering great customer service 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Developing peopl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Broad business experience (hospitality an advantage)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Grow your Capital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ust have at least $360,000 in liquid asset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eam builder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uild peoples capability'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assion for operation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Hands on busines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e committed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184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41148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rand Recogni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ustomer Attrac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mpetitive Advanta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ranchise Value System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ulti- unit Growth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conomic Stabilit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rands that Give Back to the Communit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47960" y="1481040"/>
            <a:ext cx="41907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rands that Give Back to the Communit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Development Expertis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ccess to Financ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olid Business Suppor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Quality On-boarding &amp; Train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liable Supply Cha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turn on Investmen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franchises.about.com/od/pizza/fr/pizza-hut.htm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www.entrepreneur.com/franchises/pizzahutinc/282696-0.htm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ttp://en.wikipedia.org/wiki/Pizza_Hu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ttp://www.franchisedirect.com/foodfranchises/pizza-hut-franchise-07054/ufoc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ttp://www.franchising.com/pizzahut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1" name="Title 3" descr=""/>
          <p:cNvPicPr/>
          <p:nvPr/>
        </p:nvPicPr>
        <p:blipFill>
          <a:blip r:embed="rId5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7:27:05Z</dcterms:created>
  <dc:creator>cysd</dc:creator>
  <dc:description/>
  <dc:language>en-US</dc:language>
  <cp:lastModifiedBy>student</cp:lastModifiedBy>
  <dcterms:modified xsi:type="dcterms:W3CDTF">2012-09-28T16:20:59Z</dcterms:modified>
  <cp:revision>15</cp:revision>
  <dc:subject/>
  <dc:title>Pizza Hut franchise</dc:title>
</cp:coreProperties>
</file>